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jpeg" ContentType="image/jpeg"/>
  <Override PartName="/ppt/media/image7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72042-A9C0-42CA-8C6E-36EAF52A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CE88F-49DB-4558-A90D-F4C04601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E6AC-37A0-46CE-B534-644ADC20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20F7-CE6B-4BFF-89AF-02D31B2E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AF4D4-8DCC-42F9-A351-567B262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2C6AF-DF39-4159-A745-BF4DF60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969A-9946-4710-BFED-3369695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0431-3C2E-4983-B44E-F01EF2B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3F794-4D80-42E0-B5DB-553FC2C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572E8-C5EA-4784-A9A9-D14E8D5F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5E6B-00FE-4C3B-A842-03BD294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5B71-EB5D-4146-8D20-D6A1EF1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76720" y="0"/>
            <a:ext cx="11925360" cy="3809880"/>
            <a:chOff x="-327672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7672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6384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3344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09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76824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00400" y="304920"/>
            <a:ext cx="11909520" cy="4724280"/>
            <a:chOff x="-320040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7024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49228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0040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fctd.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D0C-F250-44BF-BECB-C229198238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ctd.info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.gov/" TargetMode="External"/><Relationship Id="rId2" Type="http://schemas.openxmlformats.org/officeDocument/2006/relationships/hyperlink" Target="http://www.ed.gov/" TargetMode="External"/><Relationship Id="rId3" Type="http://schemas.openxmlformats.org/officeDocument/2006/relationships/hyperlink" Target="http://www.fctd.info/" TargetMode="External"/><Relationship Id="rId4" Type="http://schemas.openxmlformats.org/officeDocument/2006/relationships/hyperlink" Target="http://www.ataccess.org/" TargetMode="External"/><Relationship Id="rId5" Type="http://schemas.openxmlformats.org/officeDocument/2006/relationships/hyperlink" Target="http://www.ataporg.org/stateatprojects.asp" TargetMode="External"/><Relationship Id="rId6" Type="http://schemas.openxmlformats.org/officeDocument/2006/relationships/hyperlink" Target="http://www.nichcy.org/" TargetMode="External"/><Relationship Id="rId7" Type="http://schemas.openxmlformats.org/officeDocument/2006/relationships/hyperlink" Target="http://www.taalliance.org/" TargetMode="External"/><Relationship Id="rId8" Type="http://schemas.openxmlformats.org/officeDocument/2006/relationships/hyperlink" Target="http://www.pacer.org/" TargetMode="External"/><Relationship Id="rId9" Type="http://schemas.openxmlformats.org/officeDocument/2006/relationships/hyperlink" Target="http://www.pacer.org/" TargetMode="External"/><Relationship Id="rId10" Type="http://schemas.openxmlformats.org/officeDocument/2006/relationships/hyperlink" Target="http://www.abledata.com/" TargetMode="External"/><Relationship Id="rId11" Type="http://schemas.openxmlformats.org/officeDocument/2006/relationships/hyperlink" Target="http://www.assistivetech.net/" TargetMode="External"/><Relationship Id="rId12" Type="http://schemas.openxmlformats.org/officeDocument/2006/relationships/hyperlink" Target="http://www.atto.buffalo.edu/" TargetMode="External"/><Relationship Id="rId13" Type="http://schemas.openxmlformats.org/officeDocument/2006/relationships/hyperlink" Target="http://www.atto.buffalo.edu/" TargetMode="External"/><Relationship Id="rId14" Type="http://schemas.openxmlformats.org/officeDocument/2006/relationships/hyperlink" Target="http://www.infinitec.org/" TargetMode="External"/><Relationship Id="rId15" Type="http://schemas.openxmlformats.org/officeDocument/2006/relationships/hyperlink" Target="http://www.cec.sped.org/" TargetMode="External"/><Relationship Id="rId1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istive Technology Informatio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Families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mily Center on Technology and Dis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/School to Work Aids and Adap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ing aids (calendars, reminders, task analy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/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key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board em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ve seating/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organ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ed computer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control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14496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Determine What Type of Technology My Child Need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istive technology evaluation will help match your child’s strengths and challenges with appropriate AT devices and serv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s can be conducted b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ividual consulta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to consider during the 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eas that your child is having difficulties wi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r child’s strengths and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fferent environments in which your child interacts with oth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 evaluation should result in a recommendation for specific devices and services.  AT services include training on and maintenance of AT devic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an I Learn More abou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Op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ch-language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cupational therapi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profession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unity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 (PTI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unity technology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assistive technology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habilitation Cen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possible, visit an AT Center with your child to see and try out various devices and equipment.  Many states have AT centers that loan and re-cycle AT devices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workshops, demonstrations, conferences, and the Internet are all good resources for learning more about A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amily Center on Technology and Disability website has a variety of helpful resources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fctd.inf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44193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the Law and A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with Disabilities Education Act (IDE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r child’s AT needs must be consider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istive technology” may not be identified as such, but may be included as “accommodations.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necessary, an AT evaluation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e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T devices and/or services must b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d by the school system if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dentified in the child’s IE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ining of teachers, aides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tudent may be listed in th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EP as “AT Services.”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212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ized Education Programs (IE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law requires that public schools develop IEPs for each eligible child with a disa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Ps are developed by a team of knowledgeable persons and must be reviewed once a y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team may include: child’s teacher, parents, the child, a qualified school system representative, parent advocate, translat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44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T is included in an IEP, the school must make sure it is provid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parents disagree with the proposed IEP, they can request mediation or, ultimately, a due process hearing from the state educational agency if applicable in that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62520" y="5334120"/>
          <a:ext cx="190476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90476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ing the Law and AT Continued…</a:t>
            </a:r>
            <a:br>
              <a:rPr sz="2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04 of the Rehabilitation 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s discrimination against individuals with dis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es to all programs that receive federal funds, including the public school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s with disabilities must be given the same opportunities to participate in educational programs and activities as their classmates, and the use of AT may be considered as an accommod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child does not qualify for special education services, they may be able to acquire AT through a 504 pla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sideration of Your Child’s AT Need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EP team’s consideration of 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ly follows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Gather information about your child, including his or her disabilities and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hare information gathered about your ch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Remember that your child’s preferences in areas such as color and style are important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 of Your Child’s AT Needs,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Make a list of your child’s needs, environments, and tasks, and prioritize your child’s biggest educational challen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Brainstorm possible solutions to your child’s main go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Review a list of possible device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hoose which one to try fi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. After deciding upon a devic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e the device for the stu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 Evaluate your child’s success with the device and make changes as nee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15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happens if the IEP Team cannot determine what AT devices and services are best for my chil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econd, independent AT evaluation may be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valuation should be performed by a qualified professional either in the school system or by an independent organization at the district’s expe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ssistive Technology (AT)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is “any item, piece of equipment, or product system, whether acquired commercially off the shelf, modified or customized, that is used to increase, maintain, or improve the functional capabilities of a child with a disability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 USC 1401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be anything from a simple device, such as a magnifying glass, to a complex device, such as a computerized communicatio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agreeing with the School About 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7000"/>
            <a:ext cx="7772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have the right to disagree with the school’s decision concerning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reasons for disagreement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disagree with the writing in the I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believe your child is not receiving appropriate AT devices and/or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think additional services ar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5410080"/>
            <a:ext cx="21812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1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to resolve disagre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uss the situation informally with school representa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formal action, which may includ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due process hear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filing of a formal complaint with the st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unding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84004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ding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ing sources can be organiz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ording to their criteria, which may inclu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purpose for u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technolo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nature of the equi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’s 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cation – many foundations focus on specific states, cities, and commun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ncial circumstan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62920" y="2133720"/>
            <a:ext cx="183672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Funding for 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education, vocational rehabilitation, and Medicaid are the three largest government programs that fund assistive technolo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ding can only be granted to those who meet the specific program’s eligibility requirement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y funding programs use “means test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Means test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 a way of determining eligibility for a program or service based upon income, resources, or other measures of individual or family economic stat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 vs. Medi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blished under Title 19 of the Social Security A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ministered by state ag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medical assistance for individuals “whose income and resources are insufficient to meet the costs of necessary medical services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l purchase, rent, or lease various types of AT if they are considered medically necess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34120" y="1752480"/>
            <a:ext cx="358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vides insurance to many children and adults with severe disabil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t B of Medicare describes that they may pay for all or a portion of your child’s AT devices if they qualify as “durable medical equipment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 AT device must be considered medically necessary – the child’s doctor must prescribe a specific device and it must be supplied by a Medicare-approved provi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17906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 Funding 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ty Service Organiz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many communities service, religious, or fraternal organizations provide equipment directly to individuals in particular circumsta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ation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ny foundations address disability-related needs on an ongoing basi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e more likely to give grants or loans to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Lo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ercial credit is becoming more widely available for purchases of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ns may be available through traditional lending organization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4 states have received federal funding to establish financial loan programs for individuals with disabilities to purchase A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ivate Insur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echnology and funding options on the Internet or at a local information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opportunities that you want to pursue first, second, and thi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budget of all of your family’s expens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determine what funds you can pu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ward the purchase of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you make the stronges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ible case for fu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Pyramid of dollar bills"/>
          <p:cNvPicPr/>
          <p:nvPr/>
        </p:nvPicPr>
        <p:blipFill>
          <a:blip r:embed="rId1"/>
          <a:stretch/>
        </p:blipFill>
        <p:spPr>
          <a:xfrm>
            <a:off x="6553080" y="4419720"/>
            <a:ext cx="148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a Funding Strategy Continu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people in your life who can help you with the fund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ncludes friends, relatives, and co-work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may have organizational contacts or valuable proposal writ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2271600" cy="187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4038480"/>
            <a:ext cx="60962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ep good records of your                  funding 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t helps to stay as organized a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ssible when presenting your ca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ck Tips from Parents Who Have Been Ther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6724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ossibilities of Assistive Technolog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93432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6880" y="612720"/>
            <a:ext cx="8458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up with new technology developments by exploring local resources, such as the Internet, conferences and workshops, and AT Listserv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preparing for you child’s future AT needs in adv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k with other children and adults who use AT to gain user persp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e in parent groups to help you build your advocacy skills while also having access to a lot of informational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net is a good tool for learning about AT and locating funding resour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AT is an ongoing process as your child’s needs will change and their technology needs will as w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T is perfect, but it does open doors to inclusions and independence and is worth the ef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e Effectively with Your Child’s Sch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ep in touch with your child’s teac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 all meetings concerning your child’s education and be an active participa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equent telephone ca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Vis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a good listen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rage the staff to keep you informed about your child’s progress, social interactions, and any problems or concerns that have ari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en to their professional opinions about your chi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differences of opinion arise, talk about them and look for possible solutions to help your child the mo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5481720"/>
            <a:ext cx="198108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ocate Effectively for Your Chi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62012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 your r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notes on telephone conversations a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 and save all notes, report cards, IEPs and notices from the school regarding your child’s education and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t down questions you want to ask or information you want to share before you attend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t all requests in writing and keep cop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your child for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your child become a self-advo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to other parents for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19810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773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 Department of Educatio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ed.go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mily Center on Technology and Disability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fctd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iance for Technology Access Resource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atacces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 Technology Act Project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www.ataporg.org/stateatprojects.as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tional Dissemination Center for Children with Disabilities (NICHCY)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nichcy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ent Training and Information Centers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taalliance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ER Center: 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www.pacer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DATA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http://www.abledata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stivetech.ne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http://www.assistivetech.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Online Training Project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www.atto.buffalo.ed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initec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http://www.infinitec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ncil for Exceptional Children: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http://www.cec.sped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219320"/>
            <a:ext cx="7238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Center on Technology and Disabil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emy for Educational Development (AED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25 Connecticut Avenue, N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l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, DC 20009-572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: (202) 884-806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: (202) 884-844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fctd@aed.or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25509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Assistive Technology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616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makes it possible for children with disabilities to lead independent and fulfilling l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can help in various areas, includ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s for daily liv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ting, Dressing, Recreation &amp; Leisure, and Home Liv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ing/Reading/Accessing the 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ng written material and performing math calc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y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ids for Daily Li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utensils/pl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m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ed fee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 Li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rared sender/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-10 unit and peripher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reation &amp; Lei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toys and gam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ttery interrupters and swi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sporting equi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al cuff to hold crayons, markers, paint bru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ified utens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progra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lcro Faste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tton ho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essing ai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4876920"/>
            <a:ext cx="190476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ing/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96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earning/Study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t and picture schedu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-tech aids to find materi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highligh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oice output reminders for tasks, assignments, steps to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manipulation of objects/concept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tware for organization of ideas and study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s in text size/space/color/background co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adapted for page tur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of pictures with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king electronic devices for single wo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nner with OCR and talking word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ectronic boo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/Computer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acus, mat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or/Talking Calculator/Calculator with large keys/On-scree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ftware with cueing for math co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ctile/voice output measuring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e Computer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key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prediction, word completion, macros, abbreviation expansion to reduce key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y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e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ice recognition software and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ng Written Mate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cards, word book, word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cket dictionary, thesauru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ic dictionary/spell che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d processor with word predi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media software for production of ide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ice recognition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hanics of wr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cil/pen with adapted gri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ed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antboar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ypewri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rtable word process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819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cation book/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ye gaz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voice output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device with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icon sequ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output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ce with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 for ty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741760" cy="205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59160" y="6324480"/>
            <a:ext cx="179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3:29:36Z</dcterms:created>
  <dc:creator>Annie Czapp</dc:creator>
  <dc:description/>
  <dc:language>en-US</dc:language>
  <cp:lastModifiedBy>Jacqueline Hess</cp:lastModifiedBy>
  <dcterms:modified xsi:type="dcterms:W3CDTF">2008-04-08T15:52:31Z</dcterms:modified>
  <cp:revision>104</cp:revision>
  <dc:subject/>
  <dc:title>Assistive Technology Information For Families</dc:title>
</cp:coreProperties>
</file>